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218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7280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2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218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7280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1240" y="3045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olympic.org/uk/index_uk.asp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228240" y="64767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Příprava podkladů pro potencionální kandidaturu Prahy na pořadatelství LOH 2016, resp. 20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2414520" y="3184560"/>
            <a:ext cx="4314960" cy="490680"/>
            <a:chOff x="2414520" y="3184560"/>
            <a:chExt cx="4314960" cy="490680"/>
          </a:xfrm>
        </p:grpSpPr>
        <p:sp>
          <p:nvSpPr>
            <p:cNvPr id="4" name=""/>
            <p:cNvSpPr/>
            <p:nvPr/>
          </p:nvSpPr>
          <p:spPr>
            <a:xfrm>
              <a:off x="2414520" y="3184560"/>
              <a:ext cx="4314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414520" y="3184560"/>
              <a:ext cx="43149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2840" tIns="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 u="sng">
                  <a:solidFill>
                    <a:srgbClr val="ccccff"/>
                  </a:solidFill>
                  <a:uFillTx/>
                  <a:latin typeface="Verdana"/>
                  <a:hlinkClick r:id="rId3"/>
                </a:rPr>
                <a:t>  </a:t>
              </a:r>
              <a:r>
                <a:rPr b="0" lang="cs-CZ" sz="3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cs-CZ" sz="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8600" y="304920"/>
            <a:ext cx="914400" cy="914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"/>
          <p:cNvSpPr/>
          <p:nvPr/>
        </p:nvSpPr>
        <p:spPr>
          <a:xfrm>
            <a:off x="6934320" y="647712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ÚRM únor 2007   str.: </a:t>
            </a:r>
            <a:fld id="{AC59A335-4772-43F4-AFB9-69E1B5EFF4F1}" type="slidenum">
              <a:rPr b="1" i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19320" y="870120"/>
            <a:ext cx="2374920" cy="152280"/>
          </a:xfrm>
          <a:custGeom>
            <a:avLst/>
            <a:gdLst/>
            <a:ahLst/>
            <a:rect l="l" t="t" r="r" b="b"/>
            <a:pathLst>
              <a:path w="1142" h="227">
                <a:moveTo>
                  <a:pt x="0" y="227"/>
                </a:moveTo>
                <a:cubicBezTo>
                  <a:pt x="128" y="30"/>
                  <a:pt x="459" y="37"/>
                  <a:pt x="663" y="27"/>
                </a:cubicBezTo>
                <a:cubicBezTo>
                  <a:pt x="824" y="0"/>
                  <a:pt x="978" y="0"/>
                  <a:pt x="1142" y="0"/>
                </a:cubicBez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 u="sng">
                <a:solidFill>
                  <a:srgbClr val="000000"/>
                </a:solidFill>
                <a:uFillTx/>
                <a:latin typeface="Tahoma"/>
              </a:rPr>
              <a:t>Příloha č. 3 usnesení ZHMP č. … ze dne…</a:t>
            </a:r>
            <a:br>
              <a:rPr sz="1400"/>
            </a:br>
            <a:br>
              <a:rPr sz="1400"/>
            </a:b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Informace o Ekonomické a marketingové analýze pořádání letních olympijských her v roce 2016, resp. 2020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 hl.m. Praze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zpracované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PricewaterhouseCoopers,ČR,2004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ci zpracov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tvar rozvoje hl. m. Prah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2/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04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1760" y="1295280"/>
          <a:ext cx="8869320" cy="5069160"/>
        </p:xfrm>
        <a:graphic>
          <a:graphicData uri="http://schemas.openxmlformats.org/drawingml/2006/table">
            <a:tbl>
              <a:tblPr/>
              <a:tblGrid>
                <a:gridCol w="2843280"/>
                <a:gridCol w="1825560"/>
                <a:gridCol w="1179360"/>
                <a:gridCol w="911520"/>
                <a:gridCol w="1149120"/>
                <a:gridCol w="960480"/>
              </a:tblGrid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, ost. náklad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7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réninkové ploch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9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7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staviště Letň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n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al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3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5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0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imo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lympijská vesn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 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mediální vesnice, MPC/IB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8 9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3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lš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příprava kandidátské nabíd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statní provozní výdaje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daje na paralympiád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bezpečno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28600" y="1219320"/>
          <a:ext cx="8763120" cy="5180040"/>
        </p:xfrm>
        <a:graphic>
          <a:graphicData uri="http://schemas.openxmlformats.org/drawingml/2006/table">
            <a:tbl>
              <a:tblPr/>
              <a:tblGrid>
                <a:gridCol w="2743200"/>
                <a:gridCol w="1752480"/>
                <a:gridCol w="1067040"/>
                <a:gridCol w="990360"/>
                <a:gridCol w="1219320"/>
                <a:gridCol w="990720"/>
              </a:tblGrid>
              <a:tr h="45900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n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echnologie, ISIT, telko, intern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doprava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letiště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ilnice - mimo Prahu (včetn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inženýrské sít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hotel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ad DPH na výstavbu investic financovaných H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  PRO 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4 0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8 7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9 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Urychlení výstavby D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240" y="9907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ákladní přístup spočíval v definici maxima reálně očekávaných  prostředků ze soukromých zdrojů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organizačního výboru O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developerů v oblasti real est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droje EU nejsou pro sportovní účely obecně dostupné, jejich vliv je tedy nepřímý – maximalizace jejich využití v jiných potřebných oblastech (dopravní infrastruktura může uvolnit veřejné zdroje pro potřeby O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Veřejné zdroje města, regionů, země, které bude nutné použít k profinancování deficitu mezi náklady a soukromými zdroj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280" y="1600200"/>
          <a:ext cx="4280040" cy="3744720"/>
        </p:xfrm>
        <a:graphic>
          <a:graphicData uri="http://schemas.openxmlformats.org/drawingml/2006/table">
            <a:tbl>
              <a:tblPr/>
              <a:tblGrid>
                <a:gridCol w="2146320"/>
                <a:gridCol w="1060560"/>
                <a:gridCol w="1073160"/>
              </a:tblGrid>
              <a:tr h="77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vyvolané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POC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z developmen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 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2 3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8 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Kraje a sportovní svaz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 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 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1640" y="1066680"/>
            <a:ext cx="43434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Téměř 50% zdrojů pochází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ze soukromých zdrojů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(POCOG a PPP/development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645800" y="2438280"/>
            <a:ext cx="4269240" cy="2795400"/>
            <a:chOff x="4645800" y="2438280"/>
            <a:chExt cx="4269240" cy="2795400"/>
          </a:xfrm>
        </p:grpSpPr>
        <p:sp>
          <p:nvSpPr>
            <p:cNvPr id="168" name=""/>
            <p:cNvSpPr/>
            <p:nvPr/>
          </p:nvSpPr>
          <p:spPr>
            <a:xfrm>
              <a:off x="6978240" y="2741400"/>
              <a:ext cx="1177560" cy="1672560"/>
            </a:xfrm>
            <a:custGeom>
              <a:avLst/>
              <a:gdLst/>
              <a:ahLst/>
              <a:rect l="l" t="t" r="r" b="b"/>
              <a:pathLst>
                <a:path w="82" h="110">
                  <a:moveTo>
                    <a:pt x="77" y="110"/>
                  </a:moveTo>
                  <a:cubicBezTo>
                    <a:pt x="80" y="101"/>
                    <a:pt x="82" y="92"/>
                    <a:pt x="82" y="82"/>
                  </a:cubicBezTo>
                  <a:cubicBezTo>
                    <a:pt x="82" y="37"/>
                    <a:pt x="45" y="1"/>
                    <a:pt x="0" y="1"/>
                  </a:cubicBezTo>
                  <a:cubicBezTo>
                    <a:pt x="0" y="0"/>
                    <a:pt x="0" y="1"/>
                    <a:pt x="0" y="1"/>
                  </a:cubicBezTo>
                  <a:lnTo>
                    <a:pt x="0" y="82"/>
                  </a:lnTo>
                  <a:lnTo>
                    <a:pt x="77" y="110"/>
                  </a:lnTo>
                  <a:close/>
                </a:path>
              </a:pathLst>
            </a:custGeom>
            <a:solidFill>
              <a:srgbClr val="266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78240" y="3987360"/>
              <a:ext cx="1106280" cy="121536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15" y="80"/>
                  </a:moveTo>
                  <a:cubicBezTo>
                    <a:pt x="43" y="75"/>
                    <a:pt x="67" y="55"/>
                    <a:pt x="77" y="28"/>
                  </a:cubicBezTo>
                  <a:lnTo>
                    <a:pt x="0" y="0"/>
                  </a:lnTo>
                  <a:lnTo>
                    <a:pt x="15" y="80"/>
                  </a:lnTo>
                  <a:close/>
                </a:path>
              </a:pathLst>
            </a:custGeom>
            <a:solidFill>
              <a:srgbClr val="cae8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15080" y="3987360"/>
              <a:ext cx="1378440" cy="1246320"/>
            </a:xfrm>
            <a:custGeom>
              <a:avLst/>
              <a:gdLst/>
              <a:ahLst/>
              <a:rect l="l" t="t" r="r" b="b"/>
              <a:pathLst>
                <a:path w="96" h="8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5"/>
                    <a:pt x="36" y="82"/>
                    <a:pt x="81" y="82"/>
                  </a:cubicBezTo>
                  <a:cubicBezTo>
                    <a:pt x="86" y="81"/>
                    <a:pt x="91" y="81"/>
                    <a:pt x="96" y="80"/>
                  </a:cubicBez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c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15080" y="3790800"/>
              <a:ext cx="1163160" cy="196200"/>
            </a:xfrm>
            <a:custGeom>
              <a:avLst/>
              <a:gdLst/>
              <a:ahLst/>
              <a:rect l="l" t="t" r="r" b="b"/>
              <a:pathLst>
                <a:path w="81" h="13">
                  <a:moveTo>
                    <a:pt x="1" y="0"/>
                  </a:moveTo>
                  <a:cubicBezTo>
                    <a:pt x="0" y="4"/>
                    <a:pt x="0" y="8"/>
                    <a:pt x="0" y="13"/>
                  </a:cubicBezTo>
                  <a:lnTo>
                    <a:pt x="81" y="1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2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29480" y="3562920"/>
              <a:ext cx="1148400" cy="424080"/>
            </a:xfrm>
            <a:custGeom>
              <a:avLst/>
              <a:gdLst/>
              <a:ahLst/>
              <a:rect l="l" t="t" r="r" b="b"/>
              <a:pathLst>
                <a:path w="80" h="28">
                  <a:moveTo>
                    <a:pt x="4" y="0"/>
                  </a:moveTo>
                  <a:cubicBezTo>
                    <a:pt x="2" y="4"/>
                    <a:pt x="0" y="9"/>
                    <a:pt x="0" y="15"/>
                  </a:cubicBezTo>
                  <a:lnTo>
                    <a:pt x="80" y="2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a49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86360" y="2756520"/>
              <a:ext cx="1091880" cy="1230480"/>
            </a:xfrm>
            <a:custGeom>
              <a:avLst/>
              <a:gdLst/>
              <a:ahLst/>
              <a:rect l="l" t="t" r="r" b="b"/>
              <a:pathLst>
                <a:path w="76" h="81">
                  <a:moveTo>
                    <a:pt x="76" y="0"/>
                  </a:moveTo>
                  <a:cubicBezTo>
                    <a:pt x="42" y="0"/>
                    <a:pt x="11" y="21"/>
                    <a:pt x="0" y="53"/>
                  </a:cubicBezTo>
                  <a:lnTo>
                    <a:pt x="76" y="8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1d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27160" y="3912120"/>
              <a:ext cx="187920" cy="216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5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71080" y="3426120"/>
              <a:ext cx="171360" cy="271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0"/>
                  </a:moveTo>
                  <a:lnTo>
                    <a:pt x="5" y="0"/>
                  </a:lnTo>
                  <a:lnTo>
                    <a:pt x="12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92040" y="3790800"/>
              <a:ext cx="62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raj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09440" y="5050440"/>
              <a:ext cx="62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át 28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10200" y="501984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MP 16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97040" y="3045960"/>
              <a:ext cx="91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COG 3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45800" y="3182760"/>
              <a:ext cx="69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ortov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60920" y="3426120"/>
              <a:ext cx="86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derac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78520" y="2438280"/>
              <a:ext cx="1046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kromé/P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09800" y="268128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0" y="5715000"/>
            <a:ext cx="9132840" cy="709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Zdroje POCOG z MOV jsou konečné a představují přímý podíl organizačního výboru na příjmech MOV z TV práv a TOP sponzor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66680" y="1295280"/>
          <a:ext cx="7848720" cy="5005440"/>
        </p:xfrm>
        <a:graphic>
          <a:graphicData uri="http://schemas.openxmlformats.org/drawingml/2006/table">
            <a:tbl>
              <a:tblPr/>
              <a:tblGrid>
                <a:gridCol w="5639040"/>
                <a:gridCol w="2209680"/>
              </a:tblGrid>
              <a:tr h="749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3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rava – Praha (metro, radiály, MO, P+R, tm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4 8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tiště (nová vzletová dráh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8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– Praha (letiště-centrum, městská železnice, Nové spojen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4 4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(korid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ilnice (PO, dálnice D3, D8, D1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ženýrské sítě (ČO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 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otely (běžný rozvoj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33520" y="1676520"/>
          <a:ext cx="3886200" cy="4038120"/>
        </p:xfrm>
        <a:graphic>
          <a:graphicData uri="http://schemas.openxmlformats.org/drawingml/2006/table">
            <a:tbl>
              <a:tblPr/>
              <a:tblGrid>
                <a:gridCol w="2396880"/>
                <a:gridCol w="1489320"/>
              </a:tblGrid>
              <a:tr h="88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oukromé zdroje (PP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droje E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8 8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78 0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724280" y="1219320"/>
            <a:ext cx="419112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Téměř 25% zdrojů pochází </a:t>
            </a:r>
            <a:br>
              <a:rPr sz="1600"/>
            </a:b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ze soukromých zdrojů a zdrojů EU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886200" y="2209680"/>
          <a:ext cx="6019920" cy="40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209680"/>
                    <a:ext cx="601992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akroekonomická vyčíslení (pro OH 2020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1160" y="1244520"/>
            <a:ext cx="9132840" cy="120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Hlavním důvodem, proč pořádání olympiády je pro hostitele výnosné, jsou vnější finanční prostředky, které by jinak jeho ekonomika nezískala. Zdrojem těchto prostředků jsou příjmy od médií, sponzorů, členů “Olympijské rodiny” 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 turistů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25905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Výsledky generované modelem celé ekonomiky zohledňují nutnost splatit deficit her 66,5 mld. Kč nutný k pokrytí výše uvedeného rozdílu mezi soukromými zdroji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a náklady h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I po splacení tohoto rozdílu hry stále generují přírůstek HDP ve výši 25 mld. Kč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(cca 1% HDP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Považujeme-li těchto 66,5 mld. Kč za investici do her, lze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z makroekonomického hlediska vyjádřit poměr mezi náklady a výnosy projektu her asi jako 66,5 mld.  Kč : 91 mld. Kč (= 66,5+25 mld. Kč), tj. zhruba 3 : 4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Mezi další makroekonomické přínosy her patří například zvýšení daňových příjmů v objemu zhruba 16 mld. Kč, obratů v ekonomice o 50 mld. Kč, či 44 tis. vytvořených pracovních míst. Inflace nad rámec obecné inflace v ekonomice není modelem indikována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Některé aspekty organizace a časová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Strategie získávání zdroj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Krátkodob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ískávání politické podpory, potřeba záruk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Sponzoři pro přípravu nabídk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Maximalizace zdrojů z EU (infrastrukturní projekt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ktivní přístup k projektům PPP, identifikace developerů, studie proveditelnosti a identifikace zdroj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Středně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álné využití PPP zdrojů, financování výkupů pozemků (spojení s developer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Identifikace lokálních nebo regionálních pro naplnění rozpočtu org. výbor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strukturalizace rozpočtu HM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bezpečení veřejných zdrojů tam,kde nebude možné zajistit jiné zdroj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Dlouho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Koordinace naplňování zdrojů org. výboru ze zdrojů MO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PPP projekty, developerské zhodnocení pozemků uvolněných v důsledku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Garantované financování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Prah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914400" y="1371600"/>
          <a:ext cx="8077320" cy="4871880"/>
        </p:xfrm>
        <a:graphic>
          <a:graphicData uri="http://schemas.openxmlformats.org/drawingml/2006/table">
            <a:tbl>
              <a:tblPr/>
              <a:tblGrid>
                <a:gridCol w="1062000"/>
                <a:gridCol w="3800520"/>
                <a:gridCol w="32148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šechny přínosy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ilákání tak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ka 4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dro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jak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y Organiz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ho výboru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řazení mezi zem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schopné po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ádat OH se všemi 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ledky pr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t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livost investic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rozvoj ekonomi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pozitivní makroekonomický dopad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e výši 25 mld. K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 úhra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všech závaz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úro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 splátek dluhov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financovaného deficitu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výd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 pro generaci dětí po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ta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výšení celkového obratu ekonomických subjektů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 5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daňový dopad ve výši 8 miliard Kč dan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obratu z multiplik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ch efekt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 a  zhrub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  mld.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na daních z 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výše uvedenéh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ír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ku HDP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7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bez Prahy, kr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a sport. svaz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Č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80880" y="1295280"/>
          <a:ext cx="8534160" cy="5148360"/>
        </p:xfrm>
        <a:graphic>
          <a:graphicData uri="http://schemas.openxmlformats.org/drawingml/2006/table">
            <a:tbl>
              <a:tblPr/>
              <a:tblGrid>
                <a:gridCol w="1109160"/>
                <a:gridCol w="4058280"/>
                <a:gridCol w="3366720"/>
              </a:tblGrid>
              <a:tr h="41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724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infrastruktura nad rámec běžného rozvoje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3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a v rámci běžného rozvoje získává prioritu, nová infrastruktur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sportoviště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2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louhodobý plán a vize rozvoj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é výstaviště v hodnotě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 brzdící odchod rodin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do satelitních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e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 z turistiky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cca 8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staviště jako nová dominanta Prahy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potvrzení její atraktiv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 (platí i pro ČR a regiony) v hodnot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hruba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-3 násobku vynalo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ných pro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k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ozvoj Strahova a Letň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ové centrum pro sport a odpočinek v Maniná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hrnutí do skupiny nejúspěšnějších sv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tových metropolí lákajících investice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globální firm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Jasná vůd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 pozice mezi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y v 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oevropském regionu v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tn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Rakousk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6094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Ekonomická a marketingová studi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 pořádání LOH v Praz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– obsah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: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omplexní vyhodnocení celého záměru v porovnání se svě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yhodnocení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územní analýzy Ú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analýza vstupních podmínek Prahy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nákladů LOH a jejich vztah k  plánovanému rozvoji města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zdrojů a jejich rozložení v privátní a veřejné sféř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rátkodobé i dlouhodobé přínosy a efekty LO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organizace kandidatury a přípravy LOH a její marke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objektivních i subjektivních riz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oporučení základních postupů v přípravě kandidatury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Analýza rizi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Analýza rizik v rámci 5 etap olympijského cykl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Klíčová rizik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Rozhodnutí na základě špatně vyhodnocených klíčových projektů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Špatná příprava a koordinace subjektů pro přípravu přihláš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gativní veřejné mínění v průběhu celého cykl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Zpoždění v připravenosti infrastruktury pro potřeby kandidatu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ýrazné změny olympijského projektu, otázky vlastnictv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s finančními zdroji ať soukromých nebo veřejný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naplnění rozpočtových příjmů organizačního výbor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při výstavbě infrastruktury a nedostatek stavebních kapaci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Bezpečnostní rizika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Selhání technologie, logistiky a dopravy, organizační selhání, živelná pohro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yšší než plánovaný nárůst zadlužen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WO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09640" y="533520"/>
            <a:ext cx="833436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Doporuče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Kdy má Praha kandidovat – otázka připravenosti a časování zahájení přípra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Ostatní klíčová doporuče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odpora klíčových subjektů (politické strany, vláda, zastupitelstva, kraj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Tlak na uskutečnění reformy veřejných financí bez níž nebude možné dokončit ani základní infrastrukturní projek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Uskutečnění klíčových projektů proveditelnosti (ceremoniální stadion, olympijská vesnice, mediální vesnice, výstaviště, Strahov, Kbely, plavecké centr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říprava a zahájení cílené PR strategi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Aktivní politika zviditelňování města a dalších olympijských areálů v rámci významných sportovních akc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ůkladný sběr dat a informací, příprava projektů, zaměření se na identifikované slabé stránky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Řešit vlastnické otázky (Bubn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emonstrovat reálnost souladu dlouhodobých potřeb města s potřebami OH v podobě zahájení výstavby a provozování vybraných projekt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Rozměr a význam letních O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tní OH jsou jednoznačně nejvýznamnější sportovní událostí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ejíž rozměr nemá mezi dalšími sportovními událostmi obdob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51560" y="1752480"/>
            <a:ext cx="8741160" cy="4575240"/>
            <a:chOff x="151560" y="1752480"/>
            <a:chExt cx="8741160" cy="4575240"/>
          </a:xfrm>
        </p:grpSpPr>
        <p:sp>
          <p:nvSpPr>
            <p:cNvPr id="54" name=""/>
            <p:cNvSpPr/>
            <p:nvPr/>
          </p:nvSpPr>
          <p:spPr>
            <a:xfrm>
              <a:off x="2418480" y="1904760"/>
              <a:ext cx="178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ace počtu hal/stadion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84600" y="4456080"/>
              <a:ext cx="143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čet divák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949200" y="6081480"/>
              <a:ext cx="273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třebu podpory odvětví ekonomik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00280" y="3739680"/>
              <a:ext cx="33624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0280" y="3287520"/>
              <a:ext cx="67284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00280" y="2837160"/>
              <a:ext cx="100908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00280" y="2376720"/>
              <a:ext cx="135360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368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3480" y="3622320"/>
              <a:ext cx="17208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09720" y="3334680"/>
              <a:ext cx="262440" cy="115992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54240" y="3046320"/>
              <a:ext cx="3445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368712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881520" y="439416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4068360" y="4494600"/>
              <a:ext cx="7030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426312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13440" y="4596840"/>
              <a:ext cx="373320" cy="144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3118680" y="5000040"/>
              <a:ext cx="7632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930040" y="5405040"/>
              <a:ext cx="1137960" cy="1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737080" y="5819040"/>
              <a:ext cx="1526040" cy="14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307368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2654640" y="439380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2228760" y="4494600"/>
              <a:ext cx="7012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180180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30736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655000" y="3621960"/>
              <a:ext cx="17064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228760" y="3334680"/>
              <a:ext cx="260280" cy="115992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802160" y="3046320"/>
              <a:ext cx="3427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3164040" y="3739320"/>
              <a:ext cx="33588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826000" y="3287520"/>
              <a:ext cx="67392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489400" y="2836800"/>
              <a:ext cx="101052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144880" y="2376720"/>
              <a:ext cx="135504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4880" y="3046320"/>
              <a:ext cx="2709000" cy="2264760"/>
            </a:xfrm>
            <a:custGeom>
              <a:avLst/>
              <a:gdLst/>
              <a:ahLst/>
              <a:rect l="l" t="t" r="r" b="b"/>
              <a:pathLst>
                <a:path w="1683" h="1353">
                  <a:moveTo>
                    <a:pt x="842" y="358"/>
                  </a:moveTo>
                  <a:lnTo>
                    <a:pt x="1683" y="0"/>
                  </a:lnTo>
                  <a:lnTo>
                    <a:pt x="1641" y="870"/>
                  </a:lnTo>
                  <a:lnTo>
                    <a:pt x="1167" y="1353"/>
                  </a:lnTo>
                  <a:lnTo>
                    <a:pt x="595" y="1195"/>
                  </a:lnTo>
                  <a:lnTo>
                    <a:pt x="0" y="879"/>
                  </a:lnTo>
                  <a:lnTo>
                    <a:pt x="284" y="233"/>
                  </a:lnTo>
                  <a:lnTo>
                    <a:pt x="842" y="358"/>
                  </a:lnTo>
                  <a:close/>
                </a:path>
              </a:pathLst>
            </a:custGeom>
            <a:solidFill>
              <a:srgbClr val="00cc99"/>
            </a:solidFill>
            <a:ln w="2232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75760" y="3942000"/>
              <a:ext cx="824040" cy="810360"/>
            </a:xfrm>
            <a:custGeom>
              <a:avLst/>
              <a:gdLst/>
              <a:ahLst/>
              <a:rect l="l" t="t" r="r" b="b"/>
              <a:pathLst>
                <a:path w="512" h="484">
                  <a:moveTo>
                    <a:pt x="326" y="74"/>
                  </a:moveTo>
                  <a:lnTo>
                    <a:pt x="512" y="0"/>
                  </a:lnTo>
                  <a:lnTo>
                    <a:pt x="474" y="181"/>
                  </a:lnTo>
                  <a:lnTo>
                    <a:pt x="488" y="484"/>
                  </a:lnTo>
                  <a:lnTo>
                    <a:pt x="284" y="237"/>
                  </a:lnTo>
                  <a:lnTo>
                    <a:pt x="0" y="223"/>
                  </a:lnTo>
                  <a:lnTo>
                    <a:pt x="205" y="51"/>
                  </a:lnTo>
                  <a:lnTo>
                    <a:pt x="326" y="74"/>
                  </a:lnTo>
                  <a:close/>
                </a:path>
              </a:pathLst>
            </a:custGeom>
            <a:solidFill>
              <a:srgbClr val="ccccff"/>
            </a:solidFill>
            <a:ln w="223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13800" y="4113000"/>
              <a:ext cx="672480" cy="483840"/>
            </a:xfrm>
            <a:custGeom>
              <a:avLst/>
              <a:gdLst/>
              <a:ahLst/>
              <a:rect l="l" t="t" r="r" b="b"/>
              <a:pathLst>
                <a:path w="418" h="289">
                  <a:moveTo>
                    <a:pt x="116" y="47"/>
                  </a:moveTo>
                  <a:lnTo>
                    <a:pt x="171" y="0"/>
                  </a:lnTo>
                  <a:lnTo>
                    <a:pt x="418" y="117"/>
                  </a:lnTo>
                  <a:lnTo>
                    <a:pt x="185" y="191"/>
                  </a:lnTo>
                  <a:lnTo>
                    <a:pt x="0" y="289"/>
                  </a:lnTo>
                  <a:lnTo>
                    <a:pt x="111" y="47"/>
                  </a:lnTo>
                  <a:lnTo>
                    <a:pt x="116" y="47"/>
                  </a:lnTo>
                  <a:lnTo>
                    <a:pt x="116" y="47"/>
                  </a:lnTo>
                  <a:close/>
                </a:path>
              </a:pathLst>
            </a:custGeom>
            <a:solidFill>
              <a:srgbClr val="000000"/>
            </a:solidFill>
            <a:ln w="79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500280" y="2376720"/>
              <a:ext cx="1800" cy="18144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500280" y="3046320"/>
              <a:ext cx="135360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00280" y="4191480"/>
              <a:ext cx="169848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00280" y="4191480"/>
              <a:ext cx="76320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737080" y="4191480"/>
              <a:ext cx="76284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801800" y="4191480"/>
              <a:ext cx="169812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2144880" y="3046320"/>
              <a:ext cx="135504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04600" y="4022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ccffcc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35560" y="35704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35560" y="31186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35560" y="266832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11440" y="2207880"/>
              <a:ext cx="365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51560" y="1752480"/>
              <a:ext cx="928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čet soutěž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60320" y="2435760"/>
              <a:ext cx="109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sportovc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11440" y="4258440"/>
              <a:ext cx="1132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vstupene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92000" y="5929200"/>
              <a:ext cx="178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od s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ů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3680" y="5577840"/>
              <a:ext cx="184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e vstupenek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1560" y="4258440"/>
              <a:ext cx="159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V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ráv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0360" y="2890800"/>
              <a:ext cx="1491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říjmy z licencí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07840" y="3307680"/>
              <a:ext cx="88200" cy="9360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40680" y="3270960"/>
              <a:ext cx="1224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ní olympi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07840" y="3533400"/>
              <a:ext cx="88200" cy="93600"/>
            </a:xfrm>
            <a:prstGeom prst="rect">
              <a:avLst/>
            </a:prstGeom>
            <a:solidFill>
              <a:srgbClr val="cccc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40320" y="3495240"/>
              <a:ext cx="1259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Zimní o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ympi</a:t>
              </a: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07840" y="3768120"/>
              <a:ext cx="88200" cy="93600"/>
            </a:xfrm>
            <a:prstGeom prst="rect">
              <a:avLst/>
            </a:prstGeom>
            <a:solidFill>
              <a:srgbClr val="000000"/>
            </a:solidFill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39960" y="3720960"/>
              <a:ext cx="165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strovství světa ve fotba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52360" y="2642760"/>
              <a:ext cx="209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uje požadavky na ubytování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74600" y="425844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35080" y="354888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38440" y="324576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l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68720" y="301788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86160" y="410616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354888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05120" y="32457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97800" y="2890800"/>
              <a:ext cx="42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70880" y="463860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67240" y="4485960"/>
              <a:ext cx="45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,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21920" y="4383720"/>
              <a:ext cx="38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17600" y="45363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86520" y="532152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32680" y="48661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96000" y="577692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5440" y="539676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62760" y="49417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0520" y="58539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06668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Analýza výchozí situace Prah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hodnocení vybavenosti města, sportovní, dopravní a technické infrastruktury současné a plánované pro potřeby měs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Definice klíčových oblastí a požadavků MOV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Transformace výsledků inventury do definice celkového konceptu pořádání her, který má při splnění základních požadavků MOV smysl z hlediska možností města Prahy a ČR a přitom má šanci na úspěch v soutěži s konkurenčními měst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Ekonomika pořádání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Příprava nákladových rozpočtů ve třech klíčových oblastech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kandidatury na pořádání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na zajištění přípravy a průběhu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infrastruktury, které nejsou vyvolány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ákladní zdroje financování jednotlivých oblastí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MO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ostatních soukromých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E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Zdroje města a stá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Strategie při získávání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Makroekonomické přínos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OH do tvorby HDP, daňové příjm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do zaměstnanost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Ostatní sociální, nepřímé a nehmotné přínos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Kandidatura a organizační zajiště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Kdy zahájit přípravu na pořádání OH a pro který olympijský ro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Organizační zajištění přípravy a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Vlastnické vztah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rávní aspekt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Marketing kandidatury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působ prezentace myšlenky OH v jednotlivých fázích příprav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artneři města Prahy pro potřeb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Rizik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aměření především na infrastrukturní, politická, finanční, bezpečnostní rizik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Následky, pravděpodobnost, způsob eliminace a náklady odstranění nebo snížení rizi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Ekonomika pořádání OH – Základní metodik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Použita metodika MOV ve stálých současných cená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áklady vyvolané přípravou a pořádáním OH (CÚ 200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Náklady kandidatury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Provoz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Investič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Ostatní náklad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Ostatní náklady, které s OH nesouvisí a nejsou OH vyvolán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808080"/>
                </a:solidFill>
                <a:latin typeface="Tahoma"/>
              </a:rPr>
              <a:t>Základ propočtů tvoří modifikovaná varianta Severní tera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pravena se záměrem maximálně uspět v konkurenci nabídek velkých světových metropolí, modifikace spočívá zejména v umístění olympijské vesnice do transformačního území v Bubnech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4952880"/>
            <a:ext cx="8534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700" spc="-1" strike="noStrike">
                <a:solidFill>
                  <a:srgbClr val="ffffff"/>
                </a:solidFill>
                <a:latin typeface="Tahoma"/>
              </a:rPr>
              <a:t>Ostatní náklady, které s OH nesouvisí, jsou vyvolány zejména infrastruk-turními projekty. Ačkoli jde o projekty, které nejsou vyvolány OH, bez jejich realizace Praha nebude schopna předložit kvalitní nabídku. Jsou-li však v souladu s potřebami města, do nákladů OH je nelze zahrnout, je však nutné prověřit jejich realizo-vatelnost z hlediska dostupných finančních zdrojů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odifikovaná „Severní terasa“ - výchozí model pro finanční kalkula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990720" y="1447920"/>
            <a:ext cx="7789680" cy="4875120"/>
            <a:chOff x="990720" y="1447920"/>
            <a:chExt cx="7789680" cy="487512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990720" y="1447920"/>
              <a:ext cx="7789680" cy="4875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50" name=""/>
            <p:cNvSpPr/>
            <p:nvPr/>
          </p:nvSpPr>
          <p:spPr>
            <a:xfrm>
              <a:off x="4820760" y="3316680"/>
              <a:ext cx="17143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600" spc="-1" strike="noStrike">
                  <a:solidFill>
                    <a:srgbClr val="333333"/>
                  </a:solidFill>
                  <a:latin typeface="Times New Roman"/>
                </a:rPr>
                <a:t>(případně v Letňanech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98360" y="1447920"/>
            <a:ext cx="3078360" cy="47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 LO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 dnešních cenách (příp. diskontované z modelu PricewaterhouseCoop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hrnují náklady výstavby </a:t>
            </a:r>
            <a:br>
              <a:rPr sz="1600"/>
            </a:b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 přípravy projek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še ve vyšší než průměrné kvalitě i standar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 clusterů a sportovišť ověřena plocha i dopravní obslužn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epředpokládají komplikace nad rámec standardních stavebních prací ani zrychlené dokončování investic v rámci stanoveného plá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7913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43000" y="1371600"/>
          <a:ext cx="7772400" cy="4606920"/>
        </p:xfrm>
        <a:graphic>
          <a:graphicData uri="http://schemas.openxmlformats.org/drawingml/2006/table">
            <a:tbl>
              <a:tblPr/>
              <a:tblGrid>
                <a:gridCol w="4150080"/>
                <a:gridCol w="1689840"/>
                <a:gridCol w="1932480"/>
              </a:tblGrid>
              <a:tr h="97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 kandidatur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provoz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investič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 OH (urychlení investic, DP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0:33:08Z</dcterms:created>
  <dc:creator>Ing. P. Jonák</dc:creator>
  <dc:description/>
  <dc:language>en-US</dc:language>
  <cp:lastModifiedBy>Ing. Zdeněk Nerad</cp:lastModifiedBy>
  <dcterms:modified xsi:type="dcterms:W3CDTF">2007-03-06T07:04:01Z</dcterms:modified>
  <cp:revision>397</cp:revision>
  <dc:subject/>
  <dc:title>Informace o postupu přípravy  podkladů pro potenciální kandidaturu Prahy na pořadatelství LOH 2016, resp. 2020</dc:title>
</cp:coreProperties>
</file>